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73C2-2C04-4DBB-A12C-935B4FBD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8752-ADB1-40EC-998F-A6663E4E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E83B-3B46-4973-8906-0D36C56D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5F7C-E03C-4D9E-8F35-10AE055F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20EC-5A7C-48D9-A385-421BAAC8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6A02-44D8-437D-88FA-A55BFE17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3F6C-58E1-4CA9-83C2-E5E033EB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0960-8774-4046-A865-EFCD4D86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E1C2-BE07-46A6-8010-B7C17D3A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ACDE-E427-4948-82C7-1A0F5C0C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5B68-2C6C-4A53-8047-14ED807F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E683-703A-4C45-9A67-E675D7B3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1B70-4211-451E-928A-E9D1CABD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EDBF-4716-47BE-BC95-AAA705B3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0522-D188-4AF5-8191-870A8DD5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83D5-BDE2-4950-B04E-A5DECDBF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3A1D-60DE-44D9-BB41-7FC00691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62A-9CA7-4768-9813-B820A5E3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97C-8FDD-4DD0-B2B9-3AB39BF3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896-A5C0-4DD9-9BD4-8127DEBA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F5FA-6285-42ED-8D34-96FF9823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C16-A1FD-4824-9C00-B2AC9162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2608-2815-4719-B6E4-BF74DB3A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7BD2-C763-43CE-A67E-D1D755DB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EC6A-DE67-4658-A795-B9CC8942481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0DA4-6890-41A2-BF8C-A1265A399D9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chenrycountyblog.com/uploaded_images/Lizard-green%2520-%2520upside%2520down-751819.jpg&amp;imgrefurl=http://www.mchenrycountyblog.com/2006_09_01_mchenrycountyblog_archive.html&amp;h=363&amp;w=340&amp;sz=23&amp;hl=en&amp;start=5&amp;tbnid=KXgYrQX2On8PXM:&amp;tbnh=121&amp;tbnw=113&amp;prev=/images%3Fq%3Dlizards%26gbv%3D2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astafricadreams.com/images/1299_tsavo_east/2912/14_lizards.jpg&amp;imgrefurl=http://www.eastafricadreams.com/291299_aruba.html&amp;h=415&amp;w=553&amp;sz=29&amp;hl=en&amp;start=16&amp;tbnid=i9-KcdCgnkJOTM:&amp;tbnh=100&amp;tbnw=133&amp;prev=/images%3Fq%3Dlizards%26gbv%3D2%26hl%3De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images.google.com/imgres?imgurl=http://www.pbs.org/wnet/nature/reptiles/images/wallpaper/lizards_large.jpg&amp;imgrefurl=http://www.pbs.org/wnet/nature/reptiles/lizards.html&amp;h=768&amp;w=1024&amp;sz=401&amp;hl=en&amp;start=4&amp;tbnid=GtnlZbO3f84yxM:&amp;tbnh=113&amp;tbnw=150&amp;prev=/images%3Fq%3Dlizards%26gbv%3D2%26hl%3De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orldanimalfoundation.homestead.com/010226_0667_0025_lslp.jpg&amp;imgrefurl=http://worldanimalfoundation.homestead.com/AdoptAKomodoDragon.html&amp;h=553&amp;w=572&amp;sz=88&amp;hl=en&amp;start=1&amp;tbnid=5VMP0YCt6GCDTM:&amp;tbnh=130&amp;tbnw=134&amp;prev=/images%3Fq%3Dlizards%26gbv%3D2%26hl%3De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izar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 Ju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343400" y="3352680"/>
            <a:ext cx="36576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oday I’m going to tell you about lizards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276720"/>
            <a:ext cx="21384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izards have about 3,000 Species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36576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ome of the lizards can scare a cat away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ill make a cat jump 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3505320"/>
            <a:ext cx="2485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ome lizards look like a leaf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ometimes if a prediter is out.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will hide in the lea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910040" y="2814480"/>
          <a:ext cx="36990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0040" y="2814480"/>
                    <a:ext cx="36990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3886200"/>
            <a:ext cx="2952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ome lizards eat bugs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its long tongue it can take the bugs and eat the bu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4114800"/>
            <a:ext cx="249552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ome lizards are big and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mall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ll lizards look like a ca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g lizards are big like a do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86400" y="3962520"/>
            <a:ext cx="25527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 hope you like to learn about lizards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8:15:12Z</dcterms:modified>
  <cp:revision>4</cp:revision>
  <dc:subject/>
  <dc:title>Animal Name</dc:title>
</cp:coreProperties>
</file>